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694-5C5B-4BD6-9413-52805F0F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176-4F60-49BC-B0CD-B9F6BE9D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3DB-5912-4BD3-9DC5-63BD518B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5E5-B702-4C4E-BEC9-BB9C2000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C4E-D153-4F0E-9F50-B19A758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C32-C402-4A41-9363-F09BC393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0EB-7245-4AA4-8F44-49B74A67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A55-AC3E-4F09-8AE6-880262BE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1E4-F849-47DB-8D32-6FAA47D1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830-3E48-4201-BFA7-F27C52D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2E3-EA23-4A0F-839A-1036FC51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7DD-03C6-469A-B49F-7044C3A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487F-A630-47A6-B700-8533A209E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pinturaentela.com/mari/wp-content/uploads/2009/03/color-wheel-300.gif&amp;imgrefurl=http://pinturaentela.com/mari/2009/03/color/&amp;usg=__5Kw5pAZD698PjNBw21O83Y7pZlY=&amp;h=300&amp;w=300&amp;sz=10&amp;hl=en&amp;start=11&amp;itbs=1&amp;tbnid=80xhCZKwTKtNXM:&amp;tbnh=116&amp;tbnw=116&amp;prev=/images%3Fq%3Dcolores%26hl%3Den%26safe%3Dactive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educastur.princast.es/cp/apolinar/archivos/ENLACES/webs%203&#186;%20primaria%20CM/images/galeria-03-animales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ksschoolhouse.com/cart-imgs/prod15287_lg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nomaders.com/blog/wp-content/uploads/2008/04/europa.jpg&amp;imgrefurl=http://www.nomaders.com/blog/index.php/hacia-una-europa-para-todos-nuevos-paises-schengen/comment-page-1/&amp;usg=__YQ9tRP3rTu-Sbd1JKEq9yhsFnGs=&amp;h=2419&amp;w=2477&amp;sz=617&amp;hl=en&amp;start=38&amp;itbs=1&amp;tbnid=k5QtqkHwnDli9M:&amp;tbnh=146&amp;tbnw=150&amp;prev=/images%3Fq%3DPAISES%26start%3D20%26hl%3Den%26safe%3Dactive%26sa%3DN%26gbv%3D2%26ndsp%3D20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ses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ea Marin  y  Rosa  Baldovi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ra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ira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roco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lef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or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b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o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n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z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dos Un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rto 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m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nta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s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956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2:15Z</dcterms:created>
  <dc:creator>WSFCS Workstation</dc:creator>
  <dc:description/>
  <dc:language>en-US</dc:language>
  <cp:lastModifiedBy>WSFCS Workstation</cp:lastModifiedBy>
  <dcterms:modified xsi:type="dcterms:W3CDTF">2010-04-26T18:58:55Z</dcterms:modified>
  <cp:revision>3</cp:revision>
  <dc:subject/>
  <dc:title>La Classes de Espanol</dc:title>
</cp:coreProperties>
</file>